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22280" y="767880"/>
            <a:ext cx="2654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B505-B6E3-4002-8330-8F3356DBE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C998-7F93-4604-AFFD-7629312C0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222640" y="768240"/>
            <a:ext cx="2654280" cy="3837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938-9886-40A8-947B-FE06A112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EA0-31C0-4048-877A-9CB547E4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C5B-47C9-4EED-AECD-1C90E3F6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08B-2F57-4254-B47B-244B0C10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66B-6153-4FA1-902F-6743259C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A55-D291-4415-802B-4BF3A64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7E2-4B5F-48CB-8661-8A5594F6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E99-1968-486E-BFAB-79E46CC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4F0-EA26-4235-908D-87EBCBC5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AB39-3CA7-4BFB-A449-97E05C6F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D9B-FD67-4741-9538-7176AD5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BB6-9824-4640-A6E5-3FBB782B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926-1C39-4C3D-9C87-39F9D6EEB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a2009"/>
          <p:cNvPicPr/>
          <p:nvPr/>
        </p:nvPicPr>
        <p:blipFill>
          <a:blip r:embed="rId1"/>
          <a:stretch/>
        </p:blipFill>
        <p:spPr>
          <a:xfrm>
            <a:off x="76320" y="8305920"/>
            <a:ext cx="6456240" cy="13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Gmod_cog"/>
          <p:cNvPicPr/>
          <p:nvPr/>
        </p:nvPicPr>
        <p:blipFill>
          <a:blip r:embed="rId2"/>
          <a:stretch/>
        </p:blipFill>
        <p:spPr>
          <a:xfrm>
            <a:off x="228600" y="281160"/>
            <a:ext cx="3124080" cy="229860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3429000" y="304920"/>
            <a:ext cx="0" cy="2286000"/>
          </a:xfrm>
          <a:prstGeom prst="line">
            <a:avLst/>
          </a:prstGeom>
          <a:ln w="38160">
            <a:solidFill>
              <a:srgbClr val="0942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510720" y="2286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Database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for Biolog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500280" y="1379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Pre-conferenc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513240" y="1689120"/>
            <a:ext cx="2963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28 October 2009, 2-6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www.ausbiotech2009.com.au/bia/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gmod.org/wiki/BA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71680" y="2809800"/>
            <a:ext cx="59814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Learn how GMOD tools can help you visualize, annotate, and manage your genomic data.  GMOD is a collection of interoperable, open source software components that can help you integrate and share biological data.  GMOD tools are used in a wide range of organizations, from major model organism databases (FlyBase, WormBase, TAIR, …) to single lab instal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half-day, pre-conference workshop will introduce the GMOD project and many GMOD tool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Visualization: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GBrowse, JBrowse, GBrowse_syn, CMap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Data Management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Chado, BioMart, InterMin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Annotation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MAKER, DIYA, Apollo, Textpress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GBrowse, a popular genome browser, will be demonstrated with a worked example.  At the end of this workshop participants will understand which GMOD tools may be useful to them, and have an understanding of the effort required to us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95440" y="7310520"/>
            <a:ext cx="1614240" cy="107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7284960"/>
            <a:ext cx="419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workshop is generously sponsored by Bioplatforms Australia, and admission to the workshop is included in the registration for Bioinformatics Australia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4:30:39Z</dcterms:created>
  <dc:creator>GMOD / NESCent</dc:creator>
  <dc:description/>
  <dc:language>en-US</dc:language>
  <cp:lastModifiedBy>GMOD / NESCent</cp:lastModifiedBy>
  <dcterms:modified xsi:type="dcterms:W3CDTF">2009-09-30T16:57:49Z</dcterms:modified>
  <cp:revision>17</cp:revision>
  <dc:subject/>
  <dc:title>PowerPoint Presentation</dc:title>
</cp:coreProperties>
</file>